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D58D-0CE5-4DD3-961D-133E10435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DF6A-88A2-4BCC-98AC-B930A5D4C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916-F7B2-46CA-B2BE-61485D2C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49B-A0CD-4A3D-9BE1-AA9ED674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52F-51E8-4BFF-8A61-46A0AA00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1D2-1C8B-4141-8C46-225D79C1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CD6A-85FC-4A95-9838-C63CC974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0C8B-F270-48FB-97E3-D04C970D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9C2-44BA-473B-B7DC-E1E05005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846-C84E-4D0A-B152-30D497FF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857B-3990-4D42-97A6-FC0D053E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30A-D4C8-431A-8645-4FD50E9A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854C-BF17-4FDF-808F-26C0A27A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AC8-7A2D-41E4-9650-17E05F40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A9FE-13F4-4CB9-990C-80F8F7089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Rashmi. Yo vivo en Nueva York. Tengo quince años. Tengo dos hermanas. Muy bueno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NYCDOE</cp:lastModifiedBy>
  <dcterms:modified xsi:type="dcterms:W3CDTF">2012-11-30T15:00:17Z</dcterms:modified>
  <cp:revision>101</cp:revision>
  <dc:subject/>
  <dc:title>Profile</dc:title>
</cp:coreProperties>
</file>